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281-0604-48D7-A04F-B6234CD1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558-4CAB-4C85-AA29-9F34803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637-83C5-4438-A651-94599F86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6FE-CFE2-4E8F-AA28-A76557F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1C0-FE17-49B6-8B8C-A5A823B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7A7-245B-4500-A439-17881CF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387-E76C-4A8A-A58C-F35175E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DC5-6DF9-43D5-B0B3-379CDA57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D93-8CDB-4C4B-94B8-4DF5DC3B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3CC-5F49-4D46-B66F-57F2DC2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15F-B60F-43BE-BD13-14106E7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395-3560-46C1-8DCB-D471C9D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968-9C68-4A4E-9FC9-D1DF2E26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with nonstandard units with a twist of standard measurement conceptualiz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arie Mayw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give you an inchw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h long piece of green pipe clea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inchworm to measure items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inchworm at the beginning of the thing you are measu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inchworms long items 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ach how to mark a spot to find out where to place the wor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work sheet or drawing paper to record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286000"/>
            <a:ext cx="106668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631800">
            <a:off x="7696080" y="0"/>
            <a:ext cx="1447920" cy="187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5562720"/>
            <a:ext cx="113184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0680200">
            <a:off x="304560" y="228600"/>
            <a:ext cx="931680" cy="11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91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629400">
            <a:off x="2209680" y="2286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24480" y="0"/>
            <a:ext cx="8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8238800">
            <a:off x="1676160" y="914040"/>
            <a:ext cx="54039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8238800">
            <a:off x="1828800" y="2133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7920" y="4343400"/>
            <a:ext cx="12189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your spot with your 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8238800">
            <a:off x="1828800" y="2133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343400"/>
            <a:ext cx="12189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32344" t="0" r="0" b="0"/>
          <a:stretch/>
        </p:blipFill>
        <p:spPr>
          <a:xfrm>
            <a:off x="2133720" y="4495680"/>
            <a:ext cx="1339560" cy="19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3733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your spot with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your worm to the beginning of the spot your finger is 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gain until you know how many worms would fill 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18238800">
            <a:off x="1752480" y="3276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5486400"/>
            <a:ext cx="121932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32344" t="0" r="0" b="0"/>
          <a:stretch/>
        </p:blipFill>
        <p:spPr>
          <a:xfrm>
            <a:off x="2133720" y="5638680"/>
            <a:ext cx="1339560" cy="19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this game some mo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t with frien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t at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someone else how to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flipH="1" rot="181800">
            <a:off x="5028480" y="1294920"/>
            <a:ext cx="2895480" cy="194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943600">
            <a:off x="3962160" y="3123720"/>
            <a:ext cx="2027160" cy="135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664000">
            <a:off x="6934320" y="4647960"/>
            <a:ext cx="1882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54:01Z</dcterms:created>
  <dc:creator> </dc:creator>
  <dc:description/>
  <dc:language>en-US</dc:language>
  <cp:lastModifiedBy> </cp:lastModifiedBy>
  <dcterms:modified xsi:type="dcterms:W3CDTF">2008-04-23T16:16:24Z</dcterms:modified>
  <cp:revision>9</cp:revision>
  <dc:subject/>
  <dc:title>Inch worms</dc:title>
</cp:coreProperties>
</file>